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19A-54CF-47DB-B2F4-022478BC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4DFC-CCBD-4FB0-821C-66404615F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268-CCBE-40DA-B2B7-1989E2D6E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9E27-1923-4691-BFD4-8E9CA64AE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B75-28C6-4525-906F-2A22A7518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9C4C-1B1E-4326-BAA1-FF6A6FDCA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B32-CEE3-45AC-92CC-28D248D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2F9-2B8A-4C7D-BD7D-E64E00E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464-3C64-4AEF-B9D8-FFF3DA63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655-B356-43A4-BAFC-4ECAB392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5116-21AB-4B24-A675-E5006159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895-65E7-4B7A-86FE-D5673E2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D96-530F-4122-9D5F-563FBA54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B5E-7179-4289-90F9-9A24068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3AC-58BF-493F-AF77-F4F77B6C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CB0-63FA-4FF6-974D-8ACFE33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9E16-8754-433A-BBFF-B9B998B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4D1-9FA2-4079-9CEB-6830AEA1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E25-4AFF-4838-B7E0-9905DA9C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F76-1C7B-40ED-A9ED-367E22D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A01-34BA-4AC2-A6C4-51C52182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E486-79C0-40FC-9CD0-5F5CB41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CF80-71CE-4AE8-9A6D-4EE059E4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C8C-EC14-4C26-BF37-DBA5CA5E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BFD-74E2-4FA9-A94F-FED22025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3A1-EB25-48FC-82EA-E7B4040D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8B2-BD66-4EE8-A29D-5049009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A10-1021-417F-B7E4-E925AB1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A1D-A13E-427C-AE97-93665CC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A07-868A-465B-A18D-25CFF57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ACCA-23C0-4494-A8F9-180BAAD35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1DB6-146E-4932-8E96-F8A9A4B91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VIDEO ONQ #1 -CONGRE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title of the MAJORITY lead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itle of the MAJORITY leader of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933640" y="305604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THREE Presidents have faced impeach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32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4495680" y="2362320"/>
            <a:ext cx="2895840" cy="3382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830160"/>
            <a:ext cx="807696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lies at the heart of the authority of Congr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066680" y="414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124440" cy="2674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en is Election Da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7048800" cy="3753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16T20:03:06Z</dcterms:modified>
  <cp:revision>138</cp:revision>
  <dc:subject/>
  <dc:title>D/O: TO EXPLAIN AND IDENTIFY PROBLEMS OF ECONOMICS</dc:title>
</cp:coreProperties>
</file>